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D7669-37C8-4FC0-B6C0-25A355B7F8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D645-5177-4B8F-8336-97E9F804C4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A1029-F675-4912-9AAF-87D27E8BB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0F542-ADBE-4714-8691-63259F6263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6AF99-1D30-440F-8DD7-9845DDFFC4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C32E6-B85C-4ECF-8754-7B44D71149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52627-478C-40F1-9FBF-717FAD63D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A336F-93B7-4750-B127-0790E9FF31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160A7-0A8B-4865-8D8D-04CFA3CD75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9F9C0-3529-4F7A-ACD9-4EBF7DDB7A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FCF37-DD4A-4388-95AC-F0E5DC35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AF997-29E6-4685-B584-BBF8E9F6C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B7D39-CA62-45A9-9849-8CA4C23BE9D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klambert@wlu.edu" TargetMode="External"/><Relationship Id="rId2" Type="http://schemas.openxmlformats.org/officeDocument/2006/relationships/hyperlink" Target="http://home.wlu.edu/~lambertk/hsjava" TargetMode="External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hyperlink" Target="mailto:klambert@wlu.edu" TargetMode="External"/><Relationship Id="rId2" Type="http://schemas.openxmlformats.org/officeDocument/2006/relationships/hyperlink" Target="http://home.wlu.edu/~lambertk/hsjava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pcentral.collegeboard.com/apc/public/repository/ap-computer-science-%20course-description.pdf" TargetMode="Externa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Prepare Your Students </a:t>
            </a:r>
            <a:br>
              <a:rPr sz="4400"/>
            </a:b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for the AP Java Exam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41148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en Lambe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2-D Arrays: Create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73" name="Text Box 3"/>
          <p:cNvSpPr/>
          <p:nvPr/>
        </p:nvSpPr>
        <p:spPr>
          <a:xfrm>
            <a:off x="457200" y="1765440"/>
            <a:ext cx="7696080" cy="204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Declare a variable of type 2-D array of int and assign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a new 2 by 3 array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][] array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2]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or use an initializer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][] array = {{0, 0, 0}, {0, 0, 0}}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Rectangle 21"/>
          <p:cNvSpPr/>
          <p:nvPr/>
        </p:nvSpPr>
        <p:spPr>
          <a:xfrm>
            <a:off x="396252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Rectangle 22"/>
          <p:cNvSpPr/>
          <p:nvPr/>
        </p:nvSpPr>
        <p:spPr>
          <a:xfrm>
            <a:off x="434340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23"/>
          <p:cNvSpPr/>
          <p:nvPr/>
        </p:nvSpPr>
        <p:spPr>
          <a:xfrm>
            <a:off x="4724280" y="53341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Rectangle 24"/>
          <p:cNvSpPr/>
          <p:nvPr/>
        </p:nvSpPr>
        <p:spPr>
          <a:xfrm>
            <a:off x="396252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Rectangle 25"/>
          <p:cNvSpPr/>
          <p:nvPr/>
        </p:nvSpPr>
        <p:spPr>
          <a:xfrm>
            <a:off x="434340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26"/>
          <p:cNvSpPr/>
          <p:nvPr/>
        </p:nvSpPr>
        <p:spPr>
          <a:xfrm>
            <a:off x="4724280" y="57913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TextBox 27"/>
          <p:cNvSpPr/>
          <p:nvPr/>
        </p:nvSpPr>
        <p:spPr>
          <a:xfrm>
            <a:off x="3886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TextBox 28"/>
          <p:cNvSpPr/>
          <p:nvPr/>
        </p:nvSpPr>
        <p:spPr>
          <a:xfrm>
            <a:off x="3583800" y="533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TextBox 29"/>
          <p:cNvSpPr/>
          <p:nvPr/>
        </p:nvSpPr>
        <p:spPr>
          <a:xfrm>
            <a:off x="3583800" y="578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2-D Arrays: Initialize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84" name="Text Box 3"/>
          <p:cNvSpPr/>
          <p:nvPr/>
        </p:nvSpPr>
        <p:spPr>
          <a:xfrm>
            <a:off x="457200" y="1752480"/>
            <a:ext cx="7696080" cy="27709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][] array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rows][columns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Place consecutive integers from 1 through the number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cells into an array of any dimension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umber =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ow = 0; row &lt; array.length; row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l = 0; col &lt; array[row].length; col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[row][col] = number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21"/>
          <p:cNvSpPr/>
          <p:nvPr/>
        </p:nvSpPr>
        <p:spPr>
          <a:xfrm>
            <a:off x="396252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Rectangle 22"/>
          <p:cNvSpPr/>
          <p:nvPr/>
        </p:nvSpPr>
        <p:spPr>
          <a:xfrm>
            <a:off x="434340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Rectangle 23"/>
          <p:cNvSpPr/>
          <p:nvPr/>
        </p:nvSpPr>
        <p:spPr>
          <a:xfrm>
            <a:off x="4724280" y="53341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24"/>
          <p:cNvSpPr/>
          <p:nvPr/>
        </p:nvSpPr>
        <p:spPr>
          <a:xfrm>
            <a:off x="396252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25"/>
          <p:cNvSpPr/>
          <p:nvPr/>
        </p:nvSpPr>
        <p:spPr>
          <a:xfrm>
            <a:off x="434340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Rectangle 26"/>
          <p:cNvSpPr/>
          <p:nvPr/>
        </p:nvSpPr>
        <p:spPr>
          <a:xfrm>
            <a:off x="4724280" y="57913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TextBox 27"/>
          <p:cNvSpPr/>
          <p:nvPr/>
        </p:nvSpPr>
        <p:spPr>
          <a:xfrm>
            <a:off x="3886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TextBox 28"/>
          <p:cNvSpPr/>
          <p:nvPr/>
        </p:nvSpPr>
        <p:spPr>
          <a:xfrm>
            <a:off x="3583800" y="533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TextBox 29"/>
          <p:cNvSpPr/>
          <p:nvPr/>
        </p:nvSpPr>
        <p:spPr>
          <a:xfrm>
            <a:off x="3583800" y="578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2-D Arrays: Modify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95" name="Text Box 3"/>
          <p:cNvSpPr/>
          <p:nvPr/>
        </p:nvSpPr>
        <p:spPr>
          <a:xfrm>
            <a:off x="457200" y="1752480"/>
            <a:ext cx="7696080" cy="1310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Increment the numbers in a 2-D array of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ow = 0; row &lt; array.length; row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l = 0; col &lt; array[row].length; col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[row][col] = array[row][col] + 1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Rectangle 21"/>
          <p:cNvSpPr/>
          <p:nvPr/>
        </p:nvSpPr>
        <p:spPr>
          <a:xfrm>
            <a:off x="396252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22"/>
          <p:cNvSpPr/>
          <p:nvPr/>
        </p:nvSpPr>
        <p:spPr>
          <a:xfrm>
            <a:off x="434340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Rectangle 23"/>
          <p:cNvSpPr/>
          <p:nvPr/>
        </p:nvSpPr>
        <p:spPr>
          <a:xfrm>
            <a:off x="4724280" y="53341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Rectangle 24"/>
          <p:cNvSpPr/>
          <p:nvPr/>
        </p:nvSpPr>
        <p:spPr>
          <a:xfrm>
            <a:off x="396252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Rectangle 25"/>
          <p:cNvSpPr/>
          <p:nvPr/>
        </p:nvSpPr>
        <p:spPr>
          <a:xfrm>
            <a:off x="434340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Rectangle 26"/>
          <p:cNvSpPr/>
          <p:nvPr/>
        </p:nvSpPr>
        <p:spPr>
          <a:xfrm>
            <a:off x="4724280" y="57913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TextBox 27"/>
          <p:cNvSpPr/>
          <p:nvPr/>
        </p:nvSpPr>
        <p:spPr>
          <a:xfrm>
            <a:off x="3886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8"/>
          <p:cNvSpPr/>
          <p:nvPr/>
        </p:nvSpPr>
        <p:spPr>
          <a:xfrm>
            <a:off x="3583800" y="533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TextBox 29"/>
          <p:cNvSpPr/>
          <p:nvPr/>
        </p:nvSpPr>
        <p:spPr>
          <a:xfrm>
            <a:off x="3583800" y="578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2-D Arrays: Traversal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06" name="Text Box 3"/>
          <p:cNvSpPr/>
          <p:nvPr/>
        </p:nvSpPr>
        <p:spPr>
          <a:xfrm>
            <a:off x="457200" y="1752480"/>
            <a:ext cx="7696080" cy="1797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Print the values, one row on each li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ow = 0; row &lt; array.length; row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col = 0; col &lt; array[row].length; col++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array[row][col] + " 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Rectangle 21"/>
          <p:cNvSpPr/>
          <p:nvPr/>
        </p:nvSpPr>
        <p:spPr>
          <a:xfrm>
            <a:off x="396252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Rectangle 22"/>
          <p:cNvSpPr/>
          <p:nvPr/>
        </p:nvSpPr>
        <p:spPr>
          <a:xfrm>
            <a:off x="434340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Rectangle 23"/>
          <p:cNvSpPr/>
          <p:nvPr/>
        </p:nvSpPr>
        <p:spPr>
          <a:xfrm>
            <a:off x="4724280" y="53341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Rectangle 24"/>
          <p:cNvSpPr/>
          <p:nvPr/>
        </p:nvSpPr>
        <p:spPr>
          <a:xfrm>
            <a:off x="396252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Rectangle 25"/>
          <p:cNvSpPr/>
          <p:nvPr/>
        </p:nvSpPr>
        <p:spPr>
          <a:xfrm>
            <a:off x="434340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Rectangle 26"/>
          <p:cNvSpPr/>
          <p:nvPr/>
        </p:nvSpPr>
        <p:spPr>
          <a:xfrm>
            <a:off x="4724280" y="57913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TextBox 27"/>
          <p:cNvSpPr/>
          <p:nvPr/>
        </p:nvSpPr>
        <p:spPr>
          <a:xfrm>
            <a:off x="3886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TextBox 28"/>
          <p:cNvSpPr/>
          <p:nvPr/>
        </p:nvSpPr>
        <p:spPr>
          <a:xfrm>
            <a:off x="3583800" y="533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TextBox 29"/>
          <p:cNvSpPr/>
          <p:nvPr/>
        </p:nvSpPr>
        <p:spPr>
          <a:xfrm>
            <a:off x="3583800" y="578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Why Should I Know Interfaces?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n interface specifies a set of methods to be implemented by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faces are the “glue” for hooking software components togeth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The Tested</a:t>
            </a:r>
            <a:br>
              <a:rPr sz="4400"/>
            </a:b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 </a:t>
            </a:r>
            <a:r>
              <a:rPr b="1" lang="en-US" sz="4400" spc="-1" strike="noStrike">
                <a:solidFill>
                  <a:srgbClr val="676a55"/>
                </a:solidFill>
                <a:latin typeface="Courier New"/>
                <a:ea typeface="Courier New"/>
              </a:rPr>
              <a:t>java.util.List</a:t>
            </a: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 Methods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19" name="TextBox 3"/>
          <p:cNvSpPr/>
          <p:nvPr/>
        </p:nvSpPr>
        <p:spPr>
          <a:xfrm>
            <a:off x="197640" y="2514600"/>
            <a:ext cx="902016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erface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List&lt;E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size(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boolean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E obj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voi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add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, E ob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get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index)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set(int index, E obj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 remove(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index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clas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ArrayList&lt;E&gt; </a:t>
            </a:r>
            <a:r>
              <a:rPr b="1" lang="en-US" sz="2000" spc="-1" strike="noStrike">
                <a:solidFill>
                  <a:srgbClr val="3366ff"/>
                </a:solidFill>
                <a:latin typeface="Courier New"/>
                <a:ea typeface="Courier New"/>
              </a:rPr>
              <a:t>implements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List&lt;E&gt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Example Use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1" name="Text Box 3"/>
          <p:cNvSpPr/>
          <p:nvPr/>
        </p:nvSpPr>
        <p:spPr>
          <a:xfrm>
            <a:off x="457200" y="1752480"/>
            <a:ext cx="769608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mp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util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teger&gt; numbers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List&lt;Integer&gt;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ring&gt; names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List&lt;String&gt;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 = 1; i &lt;= 10; 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s.add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s.add("Name " + 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tring name : na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umber : numb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Using Interfaces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 them as type names in variable and formal parameter decla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grammer can then use a new implementing class without changing any other code (use a linked list instead of an array lis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programmer can also access other resour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The </a:t>
            </a:r>
            <a:r>
              <a:rPr b="1" lang="en-US" sz="4400" spc="-1" strike="noStrike">
                <a:solidFill>
                  <a:srgbClr val="676a55"/>
                </a:solidFill>
                <a:latin typeface="Courier New"/>
                <a:ea typeface="Courier New"/>
              </a:rPr>
              <a:t>java.util.List</a:t>
            </a: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 Interface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25" name="TextBox 4"/>
          <p:cNvSpPr/>
          <p:nvPr/>
        </p:nvSpPr>
        <p:spPr>
          <a:xfrm>
            <a:off x="457200" y="5048280"/>
            <a:ext cx="81532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veral classes, including the class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Array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lement the </a:t>
            </a:r>
            <a:r>
              <a:rPr b="1" lang="en-US" sz="2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Rectangle 10"/>
          <p:cNvSpPr/>
          <p:nvPr/>
        </p:nvSpPr>
        <p:spPr>
          <a:xfrm>
            <a:off x="5181480" y="2133720"/>
            <a:ext cx="167652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&lt;Interface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Rectangle 10"/>
          <p:cNvSpPr/>
          <p:nvPr/>
        </p:nvSpPr>
        <p:spPr>
          <a:xfrm>
            <a:off x="1371600" y="2133720"/>
            <a:ext cx="1676520" cy="533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&lt;Interface&gt;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Queu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Rectangle 10"/>
          <p:cNvSpPr/>
          <p:nvPr/>
        </p:nvSpPr>
        <p:spPr>
          <a:xfrm>
            <a:off x="1371600" y="3200400"/>
            <a:ext cx="167652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nked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Rectangle 10"/>
          <p:cNvSpPr/>
          <p:nvPr/>
        </p:nvSpPr>
        <p:spPr>
          <a:xfrm>
            <a:off x="3276720" y="3200400"/>
            <a:ext cx="167616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ray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Rectangle 10"/>
          <p:cNvSpPr/>
          <p:nvPr/>
        </p:nvSpPr>
        <p:spPr>
          <a:xfrm>
            <a:off x="5181480" y="3200400"/>
            <a:ext cx="167652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Ve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Rectangle 10"/>
          <p:cNvSpPr/>
          <p:nvPr/>
        </p:nvSpPr>
        <p:spPr>
          <a:xfrm>
            <a:off x="5181480" y="4038480"/>
            <a:ext cx="1676520" cy="533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ac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"/>
          <p:cNvSpPr/>
          <p:nvPr/>
        </p:nvSpPr>
        <p:spPr>
          <a:xfrm>
            <a:off x="5943600" y="2666880"/>
            <a:ext cx="14292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Line 9"/>
          <p:cNvSpPr/>
          <p:nvPr/>
        </p:nvSpPr>
        <p:spPr>
          <a:xfrm>
            <a:off x="601992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Line 36"/>
          <p:cNvSpPr/>
          <p:nvPr/>
        </p:nvSpPr>
        <p:spPr>
          <a:xfrm>
            <a:off x="2590920" y="2971800"/>
            <a:ext cx="34290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Line 9"/>
          <p:cNvSpPr/>
          <p:nvPr/>
        </p:nvSpPr>
        <p:spPr>
          <a:xfrm>
            <a:off x="411480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Line 9"/>
          <p:cNvSpPr/>
          <p:nvPr/>
        </p:nvSpPr>
        <p:spPr>
          <a:xfrm>
            <a:off x="2590920" y="297180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8"/>
          <p:cNvSpPr/>
          <p:nvPr/>
        </p:nvSpPr>
        <p:spPr>
          <a:xfrm>
            <a:off x="2133720" y="2666880"/>
            <a:ext cx="142920" cy="7632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240" bIns="-212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Line 9"/>
          <p:cNvSpPr/>
          <p:nvPr/>
        </p:nvSpPr>
        <p:spPr>
          <a:xfrm>
            <a:off x="2209680" y="27432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8"/>
          <p:cNvSpPr/>
          <p:nvPr/>
        </p:nvSpPr>
        <p:spPr>
          <a:xfrm>
            <a:off x="5952960" y="3733920"/>
            <a:ext cx="142920" cy="759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21600" bIns="-216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Line 9"/>
          <p:cNvSpPr/>
          <p:nvPr/>
        </p:nvSpPr>
        <p:spPr>
          <a:xfrm>
            <a:off x="6029280" y="380988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Example with Array List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2" name="Text Box 3"/>
          <p:cNvSpPr/>
          <p:nvPr/>
        </p:nvSpPr>
        <p:spPr>
          <a:xfrm>
            <a:off x="457200" y="1752480"/>
            <a:ext cx="769608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mp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util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&lt;Integer&gt; numbers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rray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teger&gt;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&lt;String&gt; names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Array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 = 1; i &lt;= 10; 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s.add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s.add("Name " + 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tring name : na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umber : numb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Presenter Information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44" name="Text Box 3"/>
          <p:cNvSpPr/>
          <p:nvPr/>
        </p:nvSpPr>
        <p:spPr>
          <a:xfrm>
            <a:off x="2209680" y="198108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Ken Lam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hington and Le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ngton, VA  24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: (540) 458-88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x: (540) 458-84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db5353"/>
                </a:solidFill>
                <a:uFillTx/>
                <a:latin typeface="Times New Roman"/>
                <a:hlinkClick r:id="rId1"/>
              </a:rPr>
              <a:t>klambert@wl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: </a:t>
            </a:r>
            <a:r>
              <a:rPr b="0" lang="en-US" sz="2400" spc="-1" strike="noStrike" u="sng">
                <a:solidFill>
                  <a:srgbClr val="db5353"/>
                </a:solidFill>
                <a:uFillTx/>
                <a:latin typeface="Times New Roman"/>
                <a:hlinkClick r:id="rId2"/>
              </a:rPr>
              <a:t>http://home.wlu.edu/~lambertk/hs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6" descr="LambertKen_080309_006sized2.jpg"/>
          <p:cNvPicPr/>
          <p:nvPr/>
        </p:nvPicPr>
        <p:blipFill>
          <a:blip r:embed="rId3"/>
          <a:stretch/>
        </p:blipFill>
        <p:spPr>
          <a:xfrm>
            <a:off x="6858000" y="2057400"/>
            <a:ext cx="149076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Example With Linked List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4" name="Text Box 3"/>
          <p:cNvSpPr/>
          <p:nvPr/>
        </p:nvSpPr>
        <p:spPr>
          <a:xfrm>
            <a:off x="457200" y="1752480"/>
            <a:ext cx="769608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mp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util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&lt;Integer&gt; numbers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Linked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teger&gt;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&lt;String&gt; names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Linked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 = 1; i &lt;= 10; i++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bers.add(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ames.add("Name " + i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tring name : nam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nam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number : number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number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“</a:t>
            </a: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Interface” to Other Resources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457200" y="1752480"/>
            <a:ext cx="7696080" cy="39877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mpor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java.util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&lt;Integer&gt; numbers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Linked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Integer&gt;()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List&lt;String&gt; names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LinkedLis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String&gt;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Add a bunch of random integers to numb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Add a bunch of random strings to nam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Sort both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lections.sort(number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llections.sort(names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The sort method expects a parameter of type 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Why Use </a:t>
            </a:r>
            <a:r>
              <a:rPr b="1" lang="en-US" sz="4400" spc="-1" strike="noStrike">
                <a:solidFill>
                  <a:srgbClr val="676a55"/>
                </a:solidFill>
                <a:latin typeface="Courier New"/>
                <a:ea typeface="Courier New"/>
              </a:rPr>
              <a:t>static</a:t>
            </a: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?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 tracks data that are shared by all instances of a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 allows clients to use the resources of a class independently of any instances of that cla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New </a:t>
            </a:r>
            <a:r>
              <a:rPr b="1" lang="en-US" sz="4400" spc="-1" strike="noStrike">
                <a:solidFill>
                  <a:srgbClr val="676a55"/>
                </a:solidFill>
                <a:latin typeface="Courier New"/>
                <a:ea typeface="Courier New"/>
              </a:rPr>
              <a:t>static</a:t>
            </a: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 Materials in AP A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ludes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variables that aren’t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fina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(constant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methods must be invoked using the class name as a prefix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Example: Count the Widgets Created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762120" y="1600200"/>
            <a:ext cx="7696080" cy="52045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public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Widget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idget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nceCount++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Rest of initializing code goes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Definitions of instance methods go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static private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stanceCount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static public int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InstanceCount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stanceC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Client co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 = 1; i &lt;= 10; i++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Widget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Widget.getInstanceCount()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Example: A Common Interest Rate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54" name="Text Box 3"/>
          <p:cNvSpPr/>
          <p:nvPr/>
        </p:nvSpPr>
        <p:spPr>
          <a:xfrm>
            <a:off x="228600" y="1600200"/>
            <a:ext cx="8686800" cy="54478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public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nkAccount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BankAccount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alance = 0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publ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omputeInterest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doub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Amount = balance * r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deposit(interestAmount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nterestAmoun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Instance variables and other instance methods go he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static private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te = .02;     </a:t>
            </a: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Rate for all accou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static public 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getRate(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retur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r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static public void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Rate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double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ewRate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ate = newRate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Teaching Tips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n’t introduce a new concept before it’s really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ive a reason why a new concept is need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ways give and least one or two realistic examples of the use of a concep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-360" y="609120"/>
            <a:ext cx="61722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What’s New in </a:t>
            </a:r>
            <a:br>
              <a:rPr sz="4400"/>
            </a:br>
            <a:r>
              <a:rPr b="0" i="1" lang="en-US" sz="4400" spc="-1" strike="noStrike">
                <a:solidFill>
                  <a:srgbClr val="676a55"/>
                </a:solidFill>
                <a:latin typeface="Times New Roman"/>
              </a:rPr>
              <a:t>Fundamentals of Java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2895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hapter on 2-D arrays and advanced array oper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hapter on Java collections (some old AB materia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hapter on media computing (images and sound clip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ew chapter on networked compu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9" name="Picture 5" descr="Lambert9780538744928.jpg"/>
          <p:cNvPicPr/>
          <p:nvPr/>
        </p:nvPicPr>
        <p:blipFill>
          <a:blip r:embed="rId1"/>
          <a:stretch/>
        </p:blipFill>
        <p:spPr>
          <a:xfrm>
            <a:off x="6477120" y="380880"/>
            <a:ext cx="2222280" cy="287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5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5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5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Organization of the Textbook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1: Getting Started With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ckground (What is a computer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rst Java Programs (edit, compile, run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yntax, Errors, and Debugging (the basic structure and behavior of a Java program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Control Statements (selection and iter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83280" indent="-26280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Using Objects in Media Computing (image and sound process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Example: Image Processing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63" name="Text Box 3"/>
          <p:cNvSpPr/>
          <p:nvPr/>
        </p:nvSpPr>
        <p:spPr>
          <a:xfrm>
            <a:off x="152280" y="1952640"/>
            <a:ext cx="6477120" cy="44744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mpor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images.*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public class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estGrayscale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public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static void main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(String args[]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Image image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PImage("smokey.jpg"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mage.dra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PImage theCopy = image.clone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for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Pixel p : theCopy)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verage = (p.getRed() + p.getGreen()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.getBlue()) / 3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.setRed(aver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.setGreen(aver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p.setBlue(average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theCopy.draw()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4" name="Picture 3" descr="smokey1.jpg"/>
          <p:cNvPicPr/>
          <p:nvPr/>
        </p:nvPicPr>
        <p:blipFill>
          <a:blip r:embed="rId1"/>
          <a:stretch/>
        </p:blipFill>
        <p:spPr>
          <a:xfrm>
            <a:off x="6705720" y="1981080"/>
            <a:ext cx="2286000" cy="188280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4" descr="smokey2.jpg"/>
          <p:cNvPicPr/>
          <p:nvPr/>
        </p:nvPicPr>
        <p:blipFill>
          <a:blip r:embed="rId2"/>
          <a:stretch/>
        </p:blipFill>
        <p:spPr>
          <a:xfrm>
            <a:off x="6705720" y="4594320"/>
            <a:ext cx="2286000" cy="188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28240" y="609120"/>
            <a:ext cx="3429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Biography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685800" y="28954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 of introductory textbooks in C++, Java, and Pyth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5 years of teaching introductory computer science courses at the colleg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 reader on 4 different occa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211480" y="198108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Picture 5" descr="BooksOnShelf.jpg"/>
          <p:cNvPicPr/>
          <p:nvPr/>
        </p:nvPicPr>
        <p:blipFill>
          <a:blip r:embed="rId1"/>
          <a:stretch/>
        </p:blipFill>
        <p:spPr>
          <a:xfrm>
            <a:off x="3429000" y="152280"/>
            <a:ext cx="5529240" cy="275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4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Organization of the Textbook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2: The Next Step With Jav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Defining Classes (encapsulation, methods, scope of names, etc.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ntrol Statements Continued (logical operators and nestin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mproving the User Interface (introduction to GUI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HTML and Appl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Organization of the Textbook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3: Arrays and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roduction to Arrays (the basic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lasses Continued (interfaces and inheritanc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Arrays Continued (2-D arrays and advanced array algorithm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Organization of the Textbook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3048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t 4: Advanced Topic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ursion, Complexity, Searching, and Sort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roduction to Collections (interfaces and implementing classes for lists, sets, stacks, queues, and map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00"/>
              </a:spcBef>
              <a:buClr>
                <a:srgbClr val="ff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Times New Roman"/>
              </a:rPr>
              <a:t>Introduction to Networks and Client/Server Programm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Example: A Two-Way Chat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pic>
        <p:nvPicPr>
          <p:cNvPr id="173" name="Picture 6" descr="server.jpg"/>
          <p:cNvPicPr/>
          <p:nvPr/>
        </p:nvPicPr>
        <p:blipFill>
          <a:blip r:embed="rId1"/>
          <a:stretch/>
        </p:blipFill>
        <p:spPr>
          <a:xfrm>
            <a:off x="2057400" y="1676520"/>
            <a:ext cx="5346720" cy="215892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7" descr="client.jpg"/>
          <p:cNvPicPr/>
          <p:nvPr/>
        </p:nvPicPr>
        <p:blipFill>
          <a:blip r:embed="rId2"/>
          <a:stretch/>
        </p:blipFill>
        <p:spPr>
          <a:xfrm>
            <a:off x="2057400" y="4267080"/>
            <a:ext cx="5499000" cy="233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A Two-Way Chat: The Server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76" name="Text Box 3"/>
          <p:cNvSpPr/>
          <p:nvPr/>
        </p:nvSpPr>
        <p:spPr>
          <a:xfrm>
            <a:off x="152280" y="1676520"/>
            <a:ext cx="87631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Output.println("Welcome to the chatroom. " +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         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"Type a message or 'bye' to quit.");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tr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{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clientInput = socketInput.readLine();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 (clientInput);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clientInput.equalsIgnoreCase("bye")) 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brea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&gt; ");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userInput = keyboardReader.nextLine();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Output.println(userInput);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userInput.equalsIgnoreCase("bye"))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brea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A Two-Way Chat: The Client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78" name="Text Box 3"/>
          <p:cNvSpPr/>
          <p:nvPr/>
        </p:nvSpPr>
        <p:spPr>
          <a:xfrm>
            <a:off x="152280" y="1676520"/>
            <a:ext cx="8763120" cy="3257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greeting = socketReader.readLine();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greeting);   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whil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true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){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("&gt; ");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userInput = keyboardReader.nextLine();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ocketOutput.println(userInput);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userInput.equalsIgnoreCase("bye"))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brea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tring serverInput = socketReader.readLine();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ystem.out.println(serverInput);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f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(serverInput.equalsIgnoreCase("bye"))     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break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;        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Resources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extbook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structor C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sson Pla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structor manu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werPoint Sli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igure Sh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ample 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lkits (images, sound clips, turtle graphic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utions (all exercises and programming projec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am Vi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The End!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182" name="Text Box 3"/>
          <p:cNvSpPr/>
          <p:nvPr/>
        </p:nvSpPr>
        <p:spPr>
          <a:xfrm>
            <a:off x="1676520" y="1828800"/>
            <a:ext cx="61722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r. Ken Lambe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partment of Computer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ashington and Lee Univers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exington, VA  2445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hone: (540) 458-880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ax: (540) 458-847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mail: </a:t>
            </a:r>
            <a:r>
              <a:rPr b="0" lang="en-US" sz="2400" spc="-1" strike="noStrike" u="sng">
                <a:solidFill>
                  <a:srgbClr val="db5353"/>
                </a:solidFill>
                <a:uFillTx/>
                <a:latin typeface="Times New Roman"/>
                <a:hlinkClick r:id="rId1"/>
              </a:rPr>
              <a:t>klambert@wlu.ed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: </a:t>
            </a:r>
            <a:r>
              <a:rPr b="0" lang="en-US" sz="2400" spc="-1" strike="noStrike" u="sng">
                <a:solidFill>
                  <a:srgbClr val="db5353"/>
                </a:solidFill>
                <a:uFillTx/>
                <a:latin typeface="Times New Roman"/>
                <a:hlinkClick r:id="rId2"/>
              </a:rPr>
              <a:t>http://home.wlu.edu/~lambertk/hsjav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Plan for the Webinar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new in AP computer science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ome teaching tip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’s new i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Fundamentals of Jav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What’s New in AP CS?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 AB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 has been discontinued, beginning in academic year 2009-10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re are minor additions to the requirements for the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exa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Rectangle 3">
            <a:hlinkClick r:id="rId1"/>
          </p:cNvPr>
          <p:cNvSpPr/>
          <p:nvPr/>
        </p:nvSpPr>
        <p:spPr>
          <a:xfrm>
            <a:off x="304920" y="4572000"/>
            <a:ext cx="883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3366ff"/>
                </a:solidFill>
                <a:latin typeface="Times New Roman"/>
              </a:rPr>
              <a:t>http://apcentral.collegeboard.com/apc/public/repository/ap-computer-science-course-description.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Revisions to the </a:t>
            </a:r>
            <a:r>
              <a:rPr b="0" i="1" lang="en-US" sz="4400" spc="-1" strike="noStrike">
                <a:solidFill>
                  <a:srgbClr val="676a55"/>
                </a:solidFill>
                <a:latin typeface="Times New Roman"/>
              </a:rPr>
              <a:t>A</a:t>
            </a: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 Exam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wo-dimensional array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java.util.Li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interf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.MAX_VALU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.MIN_VALU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Courier New"/>
              </a:rPr>
              <a:t>static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variables and metho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5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5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Why Should I Know 2-D Arrays?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represent grid positions in 2-dimensional space (Grid World case stu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to model board games (tic-tac-toe, checker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sed in image processing (grids of pixels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2-D Array Topics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itializ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odif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aver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76a55"/>
                </a:solidFill>
                <a:latin typeface="Times New Roman"/>
              </a:rPr>
              <a:t>2-D Arrays: Create</a:t>
            </a:r>
            <a:endParaRPr b="0" lang="en-US" sz="4400" spc="-1" strike="noStrike">
              <a:solidFill>
                <a:srgbClr val="676a55"/>
              </a:solidFill>
              <a:latin typeface="Times New Roman"/>
            </a:endParaRPr>
          </a:p>
        </p:txBody>
      </p:sp>
      <p:sp>
        <p:nvSpPr>
          <p:cNvPr id="62" name="Text Box 3"/>
          <p:cNvSpPr/>
          <p:nvPr/>
        </p:nvSpPr>
        <p:spPr>
          <a:xfrm>
            <a:off x="457200" y="1765440"/>
            <a:ext cx="7696080" cy="1310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Declare a variable of type 2-D array of int and assign i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72a376"/>
                </a:solidFill>
                <a:latin typeface="Courier New"/>
              </a:rPr>
              <a:t>// a new 2 by 3 array ob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][] array = </a:t>
            </a:r>
            <a:r>
              <a:rPr b="1" lang="en-US" sz="1600" spc="-1" strike="noStrike">
                <a:solidFill>
                  <a:srgbClr val="3366ff"/>
                </a:solidFill>
                <a:latin typeface="Courier New"/>
              </a:rPr>
              <a:t>new in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[2][3]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Rectangle 21"/>
          <p:cNvSpPr/>
          <p:nvPr/>
        </p:nvSpPr>
        <p:spPr>
          <a:xfrm>
            <a:off x="396252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22"/>
          <p:cNvSpPr/>
          <p:nvPr/>
        </p:nvSpPr>
        <p:spPr>
          <a:xfrm>
            <a:off x="4343400" y="53341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Rectangle 23"/>
          <p:cNvSpPr/>
          <p:nvPr/>
        </p:nvSpPr>
        <p:spPr>
          <a:xfrm>
            <a:off x="4724280" y="53341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Rectangle 24"/>
          <p:cNvSpPr/>
          <p:nvPr/>
        </p:nvSpPr>
        <p:spPr>
          <a:xfrm>
            <a:off x="396252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Rectangle 25"/>
          <p:cNvSpPr/>
          <p:nvPr/>
        </p:nvSpPr>
        <p:spPr>
          <a:xfrm>
            <a:off x="4343400" y="5791320"/>
            <a:ext cx="38088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Rectangle 26"/>
          <p:cNvSpPr/>
          <p:nvPr/>
        </p:nvSpPr>
        <p:spPr>
          <a:xfrm>
            <a:off x="4724280" y="5791320"/>
            <a:ext cx="381240" cy="457200"/>
          </a:xfrm>
          <a:prstGeom prst="rect">
            <a:avLst/>
          </a:prstGeom>
          <a:solidFill>
            <a:srgbClr val="72a376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Box 27"/>
          <p:cNvSpPr/>
          <p:nvPr/>
        </p:nvSpPr>
        <p:spPr>
          <a:xfrm>
            <a:off x="3886200" y="48006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   1  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Box 28"/>
          <p:cNvSpPr/>
          <p:nvPr/>
        </p:nvSpPr>
        <p:spPr>
          <a:xfrm>
            <a:off x="3583800" y="5335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TextBox 29"/>
          <p:cNvSpPr/>
          <p:nvPr/>
        </p:nvSpPr>
        <p:spPr>
          <a:xfrm>
            <a:off x="3583800" y="5787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05T19:30:07Z</dcterms:created>
  <dc:creator>Ken Lambert</dc:creator>
  <dc:description/>
  <dc:language>en-US</dc:language>
  <cp:lastModifiedBy>Ken Lambert</cp:lastModifiedBy>
  <dcterms:modified xsi:type="dcterms:W3CDTF">2009-11-05T20:58:09Z</dcterms:modified>
  <cp:revision>319</cp:revision>
  <dc:subject/>
  <dc:title>Customer Request</dc:title>
</cp:coreProperties>
</file>